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E73-252B-45D3-9953-21A04F7A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B16-0017-4D94-9623-C468D680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02D-C45F-4040-8ECE-3156A611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636-6691-43AC-A3E1-690A4D6A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784-7E0D-4E05-B789-5F29C5FC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867-07A2-4006-A35E-AF3C2CAA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023-ABBD-44CB-BBD5-01B3C08F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C32-FF4C-4F31-8FEB-97D15283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5AE-8F9C-4092-8A6E-379A7EF0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A4A-C1EB-4341-8074-8B45D62A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69C-E4FA-4330-AC96-8152073F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5CB-4287-4DF2-BE0D-887454A0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E2BC-74F0-4DC1-ACB7-BFCA9D7AD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ри основные составляющие семейной политики в Австрал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743200"/>
            <a:ext cx="684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итер МакДональ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встралийский Национальный Универси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дународный семинар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ая рождаемость в Российской Федерац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зовы и стратегические подходы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сква, Российская Федераци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-15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ентябр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</a:t>
            </a:r>
            <a:r>
              <a:rPr b="1" lang="en-A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ошкольное образ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Государственные и территориальные органы власти предоставляют различный объем дошкольного образования для детей в возрасте от трех-четырех лет, затраты родителей на которое также различ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ошкольное образование является целевой сферой реформирования, осуществляемого с тем, чтобы обеспечить универсальное бесплатное образование для всех детей трех-четырех лет в размере 20 часов в неделю (что сейчас осуществляется в Новой Зеландии)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Всеобщие льготы, предоставляемые работодател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вадцатимесячный (неоплачиваемый) отпуск по  уходу за ребенком для каждого родителя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0 дней оплачиваемого отпуска в год по уходу за ребенком или другими иждивенцами для всех сотрудников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20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дней в год  очередного оплачиваемого отпуска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бычные льготы, предоставляемые работодателем 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о договоренности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Гибкий рабочий график по договоренности с работодателя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озможность работать неполный рабочий ден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Большая часть матерей работает неполный рабочий день в часы школьных занятий своих детей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09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00-15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плачиваемый отпуск по беременности и род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Около 40 процентов работающих женщин имеют право на  предоставление им оплачиваемого отпуска по беременности и родам, финансируемого непосредственно работодателями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ава на получение подобного отпуска значительно варьируются, однако в среднем данная договоренность предусматривает полностью оплачиваемый трехмесячный отпуск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имер: Австралийский Государственный Университет предоставляет пятимесячный полностью оплачиваемый отпуск по беременности и родам, кроме того,  семь месяцев в течение года после рождения ребенка матери оплачиваются пять дней за четыре дня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Пособия семья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плата пособий обычно осуществляется матери ребенка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е облогаются налог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индексированы с учетом инф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змер составляет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us$1 = US$0.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Narrow"/>
              </a:rPr>
              <a:t>http://www.centrelink.gov.au/internet/internet.nsf/publications/fpr006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.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Пособия по беременности и род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собие по беременности и род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$4,000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 одного ребенка; повышено до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$5,000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2008.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плачивается всем матерям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Единовременное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собие на иммунизацию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$220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  полную иммунизацию одного ребенка в возрасте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18-24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есяцев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плачиваерся всем матерям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Единовременное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2.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Налоговая льгота для семей. Часть А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ыплачивается раз в две недели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Максимальная ста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оход семьи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&lt;$4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Годовая ставка в соответствии с возрастом ребенк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&lt;13: $4,3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3-15: $5,3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6-17: $1,8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8-24: $2,2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Базисная ста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оход семь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$65,000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Годовая ставка в соответствии с возрастом ребенк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&lt;18: $1,8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8-24: $2,2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*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а двоих детей до 13 лет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Лимит изменяется в зависимости от числа и возрасти дет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4724280"/>
            <a:ext cx="71625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з максимальной ставки налоговой льготы вычитается сумма, равная  20 центам с  каждого доллара (дохода) до тех пор, пока не будет достигнута Базисная ставка. Из базисной ставки вычитается сумма, равная  30 центам с каждого  доллара до тех пор, пока сумма платежа не будет равна нулю.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( $100,000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для семьи с двумя детьми младше 13 лет)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3.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Налоговая льгота для семей. Часть Б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ыплачивается раз в две недели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мер пособия зависит от возраста младшего ребенка в семье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ладший ребенок в возрасте до пяти лет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$3,468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ладший ребенок в возрасте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5-18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$2,511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плачивается в полном объеме всем одиноким родителям и супружеским парам, в которых более низкий доход кормильца равен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&lt;$4,234.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нализ конкретного примера выплаты пособий семье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емейная пара, один ребенок младенческого возраста,  доход матери в первый год жизни ребенка ниж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$4,234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$11,686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если доход семьи менее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$4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зменяется на  20 центов с каждого доллара дохода семьи до: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$9,297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, если доход семьи между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$52,000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$88,6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зменяется на 30 центов с каждого доллара дохода семьи, плюс неожиданное сокращение на конечной стадии н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$646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о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$7,468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если доход отца выше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$92,5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Пособие по уходу за  детьми дошкольного возраста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плачивается на каждого ребенка на почасовой основе.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аксимальное количество оплачиваемых часов – 50 часов в неделю в случае, если работают оба родителя, или 20 часов, если один из родителей не работа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иблизительный максимальный размер пособия на одного ребенка состовляет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$7,200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 год за 50 часов ухода за ребенком в неделю, если доход семьи ниже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$34,310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 год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зменяется на 10 центов с каждого доллара до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$1,193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 год за 50 часов ухода, если доход семьи выше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$98,3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тавки пособия, выплачиваемого на детей школьного возраста, установлены в 85% от ставок, указанных выш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Компенсация расходов на уход за ребенк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278136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мпенсация расходов на уход за ребенком возвращает родителям 30% от затрат, выплаченных за услуги по уходу за ребенком (за вычетом суммы Пособия на уход за ребенком).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нализ конкретного случая выплат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особия по уходу за ребенком и компенсации расходов на уход за ребенк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 конкретном случае, когда доход семьи 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$80,000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 год, и уход требуется одному ребенку в течение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25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часов в неделю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родители заплатили бы  за услуги по уходу около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$6,600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 год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Затем они получили бы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$1,300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 виде Пособия по уходу за ребенком и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$1,590  (30%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т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$6,600-$1,300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мпенсации за расходы на уход за ребенк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Чистая сумма, которую они выплачивают в год за уход за их ребенком, составляет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$3,7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05:30:05Z</dcterms:created>
  <dc:creator>Demography &amp; Sociology Program</dc:creator>
  <dc:description/>
  <dc:language>en-US</dc:language>
  <cp:lastModifiedBy>amordovin</cp:lastModifiedBy>
  <dcterms:modified xsi:type="dcterms:W3CDTF">2006-09-12T10:35:06Z</dcterms:modified>
  <cp:revision>43</cp:revision>
  <dc:subject/>
  <dc:title>Family Policy: Australia</dc:title>
</cp:coreProperties>
</file>